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C890-49D8-4798-860D-116B3EC3CB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5888-F473-419D-8C8F-817B71B5A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E349-F1B1-4C20-B44A-E6BBF6F2F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dcasting became available through the use of portable listening devices such as iPods and MP3 Players.  Similar to the concept of Broadcasting and Television Podcasts are transmitted in a variety of ways and formats.  Mostly podcasts are sent through RSS feeds.  RSS or Really Simple Syndication is a quick and easy way for individuals to create and receive podc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DACD-595B-46B3-88A0-6D07A12C3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main types of podcasts: Simple Podcasts refer to audio only.  Enhanced podcasts utilize images and sound together, while a Vcast, videocast, or Vodcast rely on actual video foo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3E57-8B9D-42B4-BEA1-090704B6C7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ke and Mike in the Morning, Morning Edition of All things considered, your favorite television episode (Heroes for example)  Some are free and others require a subscription co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360B-A8FF-4CDB-8F1B-FC8B5F843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 Scholarly lectures or student projects, Receive information on President Elect Obama’s cabinet picks, Provide your students with humorous and engaging lessons on gram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7B5B-543A-432F-9A89-AFEE1497B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Government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83CC-B99B-4A9A-A78E-49CDAF9C6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planning gu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ybo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dcasting Script 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7E24-B679-431C-AF59-466306B8D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t short an to th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grab your sources for proper c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consistent voice/ sound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enhance not de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DFDE-C453-4566-92D0-ACFDA1714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1F5-77FF-4C0A-9431-85AB0FA98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AAE-5CC0-480F-9DE6-345C7905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135-A3E7-4C24-A057-66344738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0D43-9450-43A2-8D61-F970FE70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81C5-20F7-4F4E-B5A5-371A5F86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924F-1159-472E-82F5-58ADEFE8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6C6D-0B13-41B8-993B-51369B3C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8899-4223-43EE-9D7B-AACE609F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7C89-945B-480F-A27E-9222DF3D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AB2A-CACE-4F84-ACCC-E3E9FDB3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A185-965C-4F24-9888-9C329632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271-C809-4FBF-9E67-6C9B56E5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5EC3-9C80-4AFD-9AB4-0FF1C744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9DC2-9137-4D53-B712-DD058138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3C7C-1BC5-41C9-AF0D-694589D2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D94D-26B1-4B97-8A21-C79DAF87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5030-08DE-4F35-BBA1-AB02A64A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76D7-AC36-4CFB-AC3E-EC16DD79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5A403-AE54-4A65-B81C-3C228FCC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67646-87F7-4868-B86C-2D00E53E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912F3-5BDE-41CC-9B93-995F0768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1F37-33CE-4829-B946-FA1538F8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25A-15B7-4A2B-8757-14B81F6F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9913-D93B-46F5-9C1D-9DCA6A44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F3A5C-6510-4203-8792-D1E2F31B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B2F7-9B2D-40B4-B077-265EA7BC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5231-504A-4CD3-A985-22EEA4E1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348D-F535-4D12-8C5A-6178090B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94078-C569-4F11-BDE4-134960E8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1142-97EA-4A2D-9655-96DBD2BA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DE094-FE86-4079-80C3-0BA6D35B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4C2BE-56B7-4F61-8C87-58E033DF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31A36-B7BC-4E82-917F-6EBF9570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0E2-60ED-4765-B7AB-67357221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254A8-F82B-426F-8A09-CD52730E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CF0A-1220-4B4D-9010-ECB2C746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7FD9B-2E54-4044-B616-955AF64A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8210-F6CD-43FC-9799-C2264043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5DF08-FFFC-4A77-882A-5F40E7AB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34E7-C73F-488C-9C1E-5F166B0D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FF0F-CA59-4734-8AA9-F905B5D7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02C97-A686-479A-B093-82C426F1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CC7AF-9A72-4AF6-9BDB-2356DC28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2CA08-36E5-4DEF-882D-67125388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DC7-E590-4B38-9EF7-43183A08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49A3E-924A-4862-AC1F-304C7925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01516-FF55-4E7B-AF52-1BA7B8C1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66E3B-2ADC-49CE-84C1-22498397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E212-F53F-4F1A-8F64-43B00C86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A92A9-37B6-440D-8ED3-CBCC9F61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26638-D3C1-401F-805B-77EF44DB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F7504-80B1-4BD0-92B6-08D50118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5F5A4-3C3A-45DE-8D74-E60A0B39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4FC53-204B-49ED-9C3B-91AEFE76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A9AEE-224E-4D16-B9ED-D666CCBF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FE29-4F38-44E7-B43A-DACFC2A8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F8095-D570-49BA-AF75-E1AF4E43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CC3-0E5C-4D8E-9F1A-EA00A804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BB5-1808-4F3C-BE93-B5CB1262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B9B-5E89-4738-AFCB-D0BE430B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D798-02C7-43C8-80F7-D7962324AA64}" type="datetime">
              <a:rPr b="0" lang="en-US" sz="1000" spc="-1" strike="noStrike">
                <a:solidFill>
                  <a:srgbClr val="575f6d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CE55-3B2F-447D-BDEE-40C836C6E2DA}" type="slidenum">
              <a:rPr b="0" lang="en-US" sz="1100" spc="-1" strike="noStrike">
                <a:solidFill>
                  <a:srgbClr val="575f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D69D-15C6-4B34-8212-BFE6777CC57B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5916-5501-4AD9-A65F-E86BC8503107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D956-05DC-42B4-8A63-FABF0EC9A1CE}" type="datetime">
              <a:rPr b="0" lang="en-US" sz="1000" spc="-1" strike="noStrike">
                <a:solidFill>
                  <a:srgbClr val="575f6d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04AE-555D-4880-B978-598BFBF45B19}" type="slidenum">
              <a:rPr b="0" lang="en-US" sz="1100" spc="-1" strike="noStrike">
                <a:solidFill>
                  <a:srgbClr val="575f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f39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39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D036-B4D9-429D-B99A-D3321EEAFDB3}" type="datetime">
              <a:rPr b="0" lang="en-US" sz="1000" spc="-1" strike="noStrike">
                <a:solidFill>
                  <a:srgbClr val="fff39d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39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C5FC-859D-4AC7-8482-480B21313137}" type="slidenum">
              <a:rPr b="0" lang="en-US" sz="1100" spc="-1" strike="noStrike">
                <a:solidFill>
                  <a:srgbClr val="fff39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5cd2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5cd2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5cd2d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AA44-3966-4878-B204-4B96B53C100A}" type="datetime">
              <a:rPr b="0" lang="en-US" sz="1000" spc="-1" strike="noStrike">
                <a:solidFill>
                  <a:srgbClr val="575f6d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75f6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0078-BD49-4E7F-914C-F47807B2E3CD}" type="slidenum">
              <a:rPr b="0" lang="en-US" sz="1100" spc="-1" strike="noStrike">
                <a:solidFill>
                  <a:srgbClr val="575f6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82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asic Podcasting for the Classroom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3" descr=""/>
          <p:cNvPicPr/>
          <p:nvPr/>
        </p:nvPicPr>
        <p:blipFill>
          <a:blip r:embed="rId2"/>
          <a:stretch/>
        </p:blipFill>
        <p:spPr>
          <a:xfrm>
            <a:off x="3359160" y="938160"/>
            <a:ext cx="5119560" cy="2884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0200"/>
            <a:ext cx="723888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Pods and MP3 play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ally Simple Syndication (RS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2133720"/>
            <a:ext cx="723888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dca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nhanced Podca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odcasts, Vcasts, or Videoca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2142720"/>
            <a:ext cx="7238880" cy="34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PN Sports rad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ational Public Rad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un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ccessing Commercial Podcasts to share with stud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Tunes Universit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N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rammar Girl’s Quick and Dirty Tips for Better Writing (iTunes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-Created Podca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structional Tool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Directions and Explanations for projec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omework Posting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ubstitute Lessons and Direction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esson Promp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udent-Created Podcas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Informational Report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xplanation of projects or process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howcase original work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dcasting Too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udacit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arageBand (Macs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Gcas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lann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lear goals and int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cripting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llecting Material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toryboar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82844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spcAft>
                <a:spcPts val="1800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rite the script fir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1800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llect images, music, and sounds in one pla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1800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cord your script in segm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1800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 mus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spcAft>
                <a:spcPts val="1800"/>
              </a:spcAft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 imag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575f6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sit the Education Podcasting Network 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5cd2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http://www.epnweb.org/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3:58:42Z</dcterms:created>
  <dc:creator>gallagherj</dc:creator>
  <dc:description/>
  <dc:language>en-US</dc:language>
  <cp:lastModifiedBy>Jim Gallagher</cp:lastModifiedBy>
  <dcterms:modified xsi:type="dcterms:W3CDTF">2008-12-17T16:16:48Z</dcterms:modified>
  <cp:revision>23</cp:revision>
  <dc:subject/>
  <dc:title>Podcasting 101</dc:title>
</cp:coreProperties>
</file>